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025-6089-48C3-BDB1-5B8CEE6E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0D7-6D0A-4125-917D-693297C9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6C4-5CE8-4CE0-A29B-2C05D494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3C1-40B1-47A1-9C7E-D5A67774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6A5-2A1E-4FAD-9C76-BF96E9D4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703-5E9D-4987-95CC-400860ED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585-4F9F-4D15-AF2D-E0E2CC23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9BA8-2405-49E8-8738-9770C532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578-FFC5-448C-9A96-34C08EE0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277-6A6E-45FA-BE70-C09CDA9C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1E4-4398-4792-8712-36A59B43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D86-B63B-4A72-BB9D-5554D6A3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370B-3040-45BF-80E5-4EC7371D3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طر الله الإنسان على مح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زين والجم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2063880"/>
            <a:ext cx="8665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دلالة ع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يكون بعد نزول القرآن من اختراعات مما يركبها الخلق في البر والبحر والجو ويستعملونها في مصالح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0" y="2079720"/>
            <a:ext cx="3355920" cy="52524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2898720"/>
            <a:ext cx="8665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الله تعالى من منافع الخيل والبغال والحمير والركوب والزينة ولم يذكر الأك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بغال والحمير محرم أكلها والخيل وإن جاز أكلها إلا أنها لا تستعمل في الغالب للأك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0920" y="3716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جواز أكل لحم الخيل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403280" y="3692520"/>
            <a:ext cx="450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54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3116160" y="2492280"/>
            <a:ext cx="1460520" cy="7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1619280" y="4005360"/>
            <a:ext cx="33019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247680" y="5450040"/>
            <a:ext cx="4673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79280" y="249408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خصومة في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014480"/>
            <a:ext cx="8729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1844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إنسان أنعم الله عليه بالنعم ولكنه لم يشكرها وكفر بموجدها وهو الله سبحانه و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022480" y="981000"/>
            <a:ext cx="6908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91960" y="1438200"/>
            <a:ext cx="85708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74404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828800" y="2060640"/>
            <a:ext cx="69912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1528920" y="3213000"/>
            <a:ext cx="741996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1871640" y="4568760"/>
            <a:ext cx="707724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عنوان 1"/>
          <p:cNvSpPr/>
          <p:nvPr/>
        </p:nvSpPr>
        <p:spPr>
          <a:xfrm>
            <a:off x="250920" y="357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بغال والحمير محرم أكلها والخيل وإن جاز أكلها إلا أنها لا تستعمل في الغالب للأك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وان 1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قق وقوعه أي قر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62080" y="1484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م يؤمنوا به ولم يصدقو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117"/>
          <a:stretch/>
        </p:blipFill>
        <p:spPr>
          <a:xfrm>
            <a:off x="324000" y="1268280"/>
            <a:ext cx="8534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6320" y="4581360"/>
            <a:ext cx="31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224172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مرار على العبادة حتى آخر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47680" y="981000"/>
            <a:ext cx="876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8767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39640" y="1824120"/>
            <a:ext cx="8431200" cy="218124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6012000" y="3284640"/>
            <a:ext cx="3603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29242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ا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33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بري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395280" y="386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وح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395280" y="43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بل والبقر والغن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4762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تستدفئون ب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رجونها إلى المرعى بالغد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حمالك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95280" y="62755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د النف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قت قيام الساع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ر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ه الله تعالى وتعاظمه ع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ركاء والأند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م يترك عباده هملاً ب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رسل إليهم رسل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زل عليهم كتب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بينوا لهم طريق السعادة وطريق الشق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ظيفة الرس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نذار عن الشرك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دعوة إلى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م يخلق الله السموات والأرض عبثاً وإنما خلق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 ودلالات عظي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467208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نبيه على ضعف الإنسان وأنه خلق م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طفة مهينة ضعيفة ومع ذلك يجادل ويخاصم ربه تعالى ويحارب رس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37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حمة الله تعالى بعباده حيث سخر ل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قوام حياتهم ودوام عيش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87700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منافع الأنعام وفوائد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8-02T13:09:56Z</dcterms:modified>
  <cp:revision>1890</cp:revision>
  <dc:subject/>
  <dc:title>عرض تقديمي في PowerPoint</dc:title>
</cp:coreProperties>
</file>